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3DC-5E57-4A4B-90FB-758B6ED8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D54-B410-47CA-8256-D97232C3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6F2A8-DD26-45F1-94E2-A878B6B0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7738E-E1F1-463B-90B3-9787E360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7F782-F91B-4EB6-B989-B6E5FFFF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46A5B-355C-4D82-81D7-3702E4E2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CA0AD-DFAA-42BF-89A9-BB1A5C1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4F2EA-BA49-4F41-82ED-BD96F6F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05FAD-4D27-4060-8784-8F66F9D4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C59FC-09E3-4FD1-A536-04AC15F1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479DA-0F8C-4C8B-9063-B86ABAF8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975-924B-4E50-AD82-B5EE7CCF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7F6-0651-4187-BBCB-1FCD178D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6820-F9B7-4096-A9D6-C867369D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B1EB-93F7-421E-BBA2-D002C11D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AFD7-49E8-482A-94A8-9DECB09C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D584-794C-458B-B18B-6948FCA5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930B-A511-4603-BDFA-2B3AD01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794-8BB2-4F69-873B-D84A4CF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3DEA-71A2-48F8-B8D3-27575EEF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16D-BB3D-40FF-B445-0AB1F5C1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C8AA-A5C7-432D-B28B-38EBF7F4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E5AF-04C0-4D3C-8E36-17C991A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814D-A624-4C1B-AC1F-A855FB5F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0E06-DA16-4E7F-8518-5CC8A299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000E-DC4C-4E0C-BF03-4638611B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409B-746C-4E29-8ECD-BAB96735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C1D9-88FA-4B8A-BD47-155440B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A1DD-2DB1-4282-9F9E-C30B0AA8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C6E1-7F1F-4F24-85DE-8174F1AB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3418-3B8E-4112-AF05-572BD396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4E8-631B-45F0-8C9C-C72F4806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D87C-0DF4-44E2-939E-06D20E8D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AAB8-2B07-432B-9F20-BADC8581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19988-A009-45FA-9A35-7D1B7B4E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0A3F-6B51-45ED-B83C-438E4A77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13E6-B3D0-4723-93A6-40340CAF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35DD-A368-4CA0-B1A1-D084CA8E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8E4D-69EF-4FEB-9747-60E39AC6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F70C-1B11-4AE1-9C80-BCB277D9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79D9-54BF-4765-AE31-80846E2F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F8D6-F53F-491E-B583-490B0195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A85-7EBA-4D09-9C03-7586F61A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5CC2-B8B8-4922-AAC7-6F0A6FFB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656F-EDF5-40BC-B6A3-4BA44732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23F6-004F-4434-AAE9-74FF35DF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8932-3CD9-4A2B-941C-EE8AB7D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76BC-7150-40E3-9422-63314495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99407-69B5-4F67-93C9-E6E4E2D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41D1-77CF-4446-9088-77103D95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C946-4317-4BD1-9E1E-111D0874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6A16-0A55-4D5C-AF7C-597185D1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BBA8-751B-4D6D-8D90-8947DC63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2DC-FAEB-4056-A473-C99BDBCE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CB892-DFC5-4227-B4A1-7FC358D4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88A2-37E5-45EA-A2BC-73917755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FF03F-5F17-439D-B81C-7373B5A3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E7F8-6B09-4736-AB3F-21072F4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F9EDD-D964-476B-BE9F-9B098793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2F029-8195-4013-AF76-AB408D56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331F-7B88-4B55-B235-891A191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5456-A7F9-4779-BCA1-7EB8692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0C3E2-2163-4A9A-B04C-5B035385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D7271-AF9F-4348-9FF1-6A33C6EE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B86-F782-4871-B4F2-735B902C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53E2-941C-42EE-BBB2-96AF3647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17F97-6623-4712-A522-46257AA1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4873-205F-4A8A-9A98-1FFF5697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EE0A-5572-42ED-ACFD-225367E0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B0BD-CF13-425A-8894-E54BB29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681A0-369C-4027-9066-479686C7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9C47B-8BE8-4302-9B78-B12DE059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79A1-248D-4C30-AB3A-ED504D1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396D-0296-4BEB-88DD-DE33F8AF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10A7-A7A7-4453-A421-D6719EC3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004-B204-469A-8AFE-E3675FD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82D4-5387-4B5C-A898-9E6DE7AB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07049-FE8D-4042-A50B-880B0B53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FAC2B-7006-47E3-9746-F0BFF660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1DFFC-A3B7-485F-8347-20CCA1AD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3243A-DF83-428F-BF82-EE0A4AA1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97E98-866E-442F-B879-CB5720B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CB650-FA6B-448D-985C-95A18FDC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99CB-0990-451B-B6FA-D482F34A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54C5-A8FD-4C05-A61A-3ADAC48E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E158-F8DD-4E13-9531-3845DA3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D89-DE8D-4C43-A117-3C00D5B3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34CDB-D2B8-4BD7-A576-5ECB6C7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BB57-98BD-4A39-B9FA-5CBEDA8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A2FC-D2C9-4999-B280-C7FDFC5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75D77-32F8-442F-925E-CAE89403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5CE3A-ABF4-4433-A590-C4F2A8EF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22E44-45AD-4E0F-BC13-AB4A370B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E668F-E3B7-44E2-8E54-76B9C5E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FB18C-7D96-4E93-ADAB-69A2434B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BADF-26CA-479A-B6F0-B7EC6894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8B9E7-794D-47CA-8C60-323E0645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07E-DCD3-454B-8583-524763C4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10752-AB75-447C-87A1-FBA565C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D11C-35CA-4F62-96BF-404386A0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A7EC8-38ED-4742-B81A-8078D56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04AEF-E09C-4E3F-BC18-C09A7D5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F34D3-8646-4FB6-A63C-BF086E2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EC05B-D4E9-49BA-B816-7C0F51E5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6146A-3B9B-4CDB-9B38-B771B760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D1BB1-C1F2-4A29-A829-1365B819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FB9B1-0B3E-434B-866F-328C3F5A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5929B-49C7-4AE9-98BD-CE4ABAE4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0DBB-1439-4949-97A7-665411D2571E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8539-1D69-4EAF-8A42-9B9540016EEF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9965-9AA7-4DEA-99E7-EF6DC61A8D44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D43D-8C0C-475A-BFA0-040D0811C04D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56FA-A9CA-4B37-BE4F-9C6A372C5AAD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678A-AD65-4325-B153-A9F32706FEBA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2EC-C8E2-4C5B-9DA5-1306AB2AE0C4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FC85-63F9-4948-8DF1-47EEA49A33C5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C5AE-0EBA-4A45-BE24-04714B4D3333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535f"/>
                </a:solidFill>
                <a:latin typeface="Franklin Gothic Book"/>
              </a:rPr>
              <a:t>Mandatos practice. . .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+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–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en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en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ten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Ven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ven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ven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on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on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pon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ec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i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di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Sal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al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sal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Hac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haz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ha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rae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ra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trai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S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é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se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+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–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dé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Cerr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ierr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cierr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ormi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uerm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duerm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Volv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vuelv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vuelv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Segui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gu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si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ed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d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pid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ens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ens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piens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+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–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Grit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grit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grit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Empez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mpiez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empiec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Mira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mir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mir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Esta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stá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esté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Ud.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Uds.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Tener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ten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ten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Venir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ven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ven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Poner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pon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pon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Decir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di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di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Salir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sal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sal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Hacer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ha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ha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Traer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trai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trai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Ser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se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se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Ud.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Uds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é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é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Cerr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ierr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ierr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ormi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uerm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uerma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Volv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vuelv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vuelva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Segui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g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ga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ed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d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da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ens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ens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ens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Ud.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Uds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Grit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grit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grit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Empez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mpiec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mpiec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Mira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mir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mir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Esta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sté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sté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0:19:39Z</dcterms:created>
  <dc:creator>Maple Lake</dc:creator>
  <dc:description/>
  <dc:language>en-US</dc:language>
  <cp:lastModifiedBy> </cp:lastModifiedBy>
  <dcterms:modified xsi:type="dcterms:W3CDTF">2010-11-11T20:59:07Z</dcterms:modified>
  <cp:revision>7</cp:revision>
  <dc:subject/>
  <dc:title>Espanol 2  Capitulo 3</dc:title>
</cp:coreProperties>
</file>